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31B-47DE-4247-BFE5-544835E1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A8B-17B1-4C2D-B304-D029B9ED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A0D-898A-4864-806A-7116359E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CFE-8BE9-4701-A2E2-2226CDC9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7AC6-36EA-4A78-A94B-1E192F5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5417-8771-4EC8-A3F9-012062BE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AE5-FD65-4A1A-938F-02F19A7E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D26B-1AAD-4D95-A624-76DEB61C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40C0-1726-4AD8-80B3-46DC2EF0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9907-4FBA-47EE-846F-0A2EADD0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D2D6-47B5-4B18-B506-5305E25A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0E2-EEF4-4DD6-A316-1EF30F3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81A-92D2-4144-879B-4E1EB7A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54DC-7580-461F-A436-5CF96E0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F628-17B9-4C76-903C-7291C16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63FF-FD62-4B0B-8B19-F74A047E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08C-C5C7-4F3C-8DB5-40544469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F3F-3D54-4FA5-8546-6F8BC66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FC7-3FF7-45A0-8922-2130C66B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754-B27B-4435-8152-D965891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502-3E50-4611-950E-63865A4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D74-1FC6-418F-B3FB-DB36B6E8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5B4-1C87-49A1-9F71-49DF4176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9D41-BCA3-47A4-A1CD-94040A9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9324-0F1E-4476-9AFD-32E77A5A18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3BBB-FC49-47F0-8667-99E4BF5A23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to24.rosreestr.ru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037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редставление документов на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государственную регистрацию прав электронным способом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6" descr="C:\Users\fgu242422\Pictures\для презентации\человечики\47833577.gif"/>
          <p:cNvPicPr/>
          <p:nvPr/>
        </p:nvPicPr>
        <p:blipFill>
          <a:blip r:embed="rId1"/>
          <a:srcRect l="0" t="62291" r="51036" b="0"/>
          <a:stretch/>
        </p:blipFill>
        <p:spPr>
          <a:xfrm>
            <a:off x="2484360" y="3068640"/>
            <a:ext cx="4392720" cy="2808360"/>
          </a:xfrm>
          <a:prstGeom prst="rect">
            <a:avLst/>
          </a:prstGeom>
          <a:ln w="76320">
            <a:solidFill>
              <a:srgbClr val="66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916280"/>
            <a:ext cx="822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Файл ЭЦП должен иметь расширение sig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ля документов с несколькими подписантами должен все подписи должны быть сформированы в одном файл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5400" y="4021200"/>
            <a:ext cx="6191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Образы документов должны быт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ложены в формате pdf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765000"/>
            <a:ext cx="80647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аг 4. «Проверка данны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веряются электронные подписи на прилагаемы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рмируется необходимое количество xml-заявл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заявление подписывается УКЭ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заявление отправляется на обработ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40039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4600" y="243000"/>
            <a:ext cx="86994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истем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ыполняет контроль заполнения обязательных по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лучае корректного ввода информации переводит на следующий ша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случае отсутствия обязательных данных, выводит предупреждающее сообще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 текущей странице без перехода на следующую страниц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ользователь на каждом из Шагов имеет возмож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хода на следующий шаг (за исключением последнего шаг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врата к предыдущему шагу (за исключением начального шаг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хранения и вывода информации, заполненной пользователем  на предыдущем ш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истема осуществляет самостоятельно расчет государственной пош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13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813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4600" y="3699000"/>
            <a:ext cx="8254800" cy="86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ОО «КриптоЦентр»,г. Красноярск  ул. Дубровинского, 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. 7 (391) 211-89-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info@24ecp.ru , сайт http://24ecp.ru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4680" y="-360"/>
            <a:ext cx="79707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Удостоверяющие центры по выдаче УЭК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832280"/>
            <a:ext cx="8207280" cy="15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аевое государственное казен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реждение «Центр информационных технолог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асноярского края» 660021, г. Красноярск, ул. Робеспье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. 32, пом. 163 т. 7 (391) 211-52-4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nfo@krskcit.r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6040" y="995400"/>
            <a:ext cx="8256600" cy="2482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писок аккредитованных удостоверяющих цент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ещен на сайте Росреестра во вклад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изические лица/Поставить на государств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адастровый учет/Перечень удостоверяющих центр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сполнивших Требования распоря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осреестра от 27.03.2014 № Р/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18644" t="11669" r="18646" b="7522"/>
          <a:stretch/>
        </p:blipFill>
        <p:spPr>
          <a:xfrm>
            <a:off x="179280" y="90792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71640" y="2060640"/>
            <a:ext cx="382320" cy="433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2133720"/>
            <a:ext cx="385560" cy="325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19280" y="4581000"/>
            <a:ext cx="958680" cy="755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89000"/>
            <a:ext cx="7490160" cy="69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www.to24.rosreestr.ru/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гистрация прав/государственная регистр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недвижимое имущество и сделок к с 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2389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Times New Roman"/>
              </a:rPr>
              <a:t>Спасибо за внимание!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4680" y="-808560"/>
            <a:ext cx="9153360" cy="76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рректная работа с системой поддержи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 следующих операционных система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dows XP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dows Vista;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dows 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 использование одного из следующих браузе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nternet Explorer версии не ниже 9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Mozilla Firefox версии не ниже 6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Opera версии не ниже 11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Google Chrome версии не ниже 13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Safari версии не ниже 5.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функционирует на базе Официального сайта Росреестра и доступно авторизованным пользователям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ети Интерн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ля использования ЭП при работе с ПО Росреестра на рабочем месте пользователя должно быть установле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иптопровайдер «КриптоПро CSP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95280" y="3716280"/>
            <a:ext cx="6481440" cy="2519280"/>
            <a:chOff x="395280" y="3716280"/>
            <a:chExt cx="6481440" cy="2519280"/>
          </a:xfrm>
        </p:grpSpPr>
        <p:sp>
          <p:nvSpPr>
            <p:cNvPr id="113" name=""/>
            <p:cNvSpPr/>
            <p:nvPr/>
          </p:nvSpPr>
          <p:spPr>
            <a:xfrm>
              <a:off x="4453920" y="3716280"/>
              <a:ext cx="2422800" cy="2519280"/>
            </a:xfrm>
            <a:custGeom>
              <a:avLst/>
              <a:gdLst>
                <a:gd name="textAreaLeft" fmla="*/ 0 w 2422800"/>
                <a:gd name="textAreaRight" fmla="*/ 2423160 w 242280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93fe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5320" y="3716280"/>
              <a:ext cx="2553120" cy="2519280"/>
            </a:xfrm>
            <a:custGeom>
              <a:avLst/>
              <a:gdLst>
                <a:gd name="textAreaLeft" fmla="*/ 0 w 2553120"/>
                <a:gd name="textAreaRight" fmla="*/ 2553480 w 255312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da"/>
                </a:gs>
                <a:gs pos="100000">
                  <a:srgbClr val="ffffc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3716280"/>
              <a:ext cx="2553480" cy="2519280"/>
            </a:xfrm>
            <a:custGeom>
              <a:avLst/>
              <a:gdLst>
                <a:gd name="textAreaLeft" fmla="*/ 0 w 2553480"/>
                <a:gd name="textAreaRight" fmla="*/ 2553480 w 255348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000099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2120" y="4436280"/>
              <a:ext cx="1396800" cy="336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11280" y="3716280"/>
            <a:ext cx="6481440" cy="2519280"/>
            <a:chOff x="2411280" y="3716280"/>
            <a:chExt cx="6481440" cy="2519280"/>
          </a:xfrm>
        </p:grpSpPr>
        <p:sp>
          <p:nvSpPr>
            <p:cNvPr id="118" name=""/>
            <p:cNvSpPr/>
            <p:nvPr/>
          </p:nvSpPr>
          <p:spPr>
            <a:xfrm>
              <a:off x="6469920" y="3716280"/>
              <a:ext cx="2422800" cy="2519280"/>
            </a:xfrm>
            <a:custGeom>
              <a:avLst/>
              <a:gdLst>
                <a:gd name="textAreaLeft" fmla="*/ 0 w 2422800"/>
                <a:gd name="textAreaRight" fmla="*/ 2423160 w 242280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93fe"/>
                </a:gs>
                <a:gs pos="100000">
                  <a:srgbClr val="00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41320" y="3716280"/>
              <a:ext cx="2553120" cy="2519280"/>
            </a:xfrm>
            <a:custGeom>
              <a:avLst/>
              <a:gdLst>
                <a:gd name="textAreaLeft" fmla="*/ 0 w 2553120"/>
                <a:gd name="textAreaRight" fmla="*/ 2553480 w 255312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feda"/>
                </a:gs>
                <a:gs pos="100000">
                  <a:srgbClr val="ffffc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1280" y="3716280"/>
              <a:ext cx="2553480" cy="2519280"/>
            </a:xfrm>
            <a:custGeom>
              <a:avLst/>
              <a:gdLst>
                <a:gd name="textAreaLeft" fmla="*/ 0 w 2553480"/>
                <a:gd name="textAreaRight" fmla="*/ 2553480 w 255348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3dafe"/>
                </a:gs>
                <a:gs pos="100000">
                  <a:srgbClr val="66cc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38120" y="4436280"/>
              <a:ext cx="1396800" cy="336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4360" y="3789360"/>
            <a:ext cx="19429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ш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ыбо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егистрацион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йствия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заполн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вед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б объекте недвижим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789360"/>
            <a:ext cx="158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ш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полн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ед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 заявител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789360"/>
            <a:ext cx="216036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ш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креп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окументов и УКЭП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обходимых для проведения государственной регистр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3789360"/>
            <a:ext cx="17100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ш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вер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несе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анных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одпис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зая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УКЭ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981000"/>
            <a:ext cx="6626160" cy="187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рядок формирования электронного пак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кументов на государствен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егистрацию пр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5760" y="0"/>
            <a:ext cx="89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рмирование электронного обращения на регистрацию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418320"/>
            <a:ext cx="849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открытии вкладки «Государственная регистрация пр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недвижимое имущество и сделок с ним в электронном вид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официальном сайте Росреестр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открывает страницу по выбору регистрационного дейст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40032" descr=""/>
          <p:cNvPicPr/>
          <p:nvPr/>
        </p:nvPicPr>
        <p:blipFill>
          <a:blip r:embed="rId1"/>
          <a:stretch/>
        </p:blipFill>
        <p:spPr>
          <a:xfrm>
            <a:off x="539640" y="1701720"/>
            <a:ext cx="8064720" cy="4967280"/>
          </a:xfrm>
          <a:prstGeom prst="rect">
            <a:avLst/>
          </a:prstGeom>
          <a:ln w="0">
            <a:noFill/>
          </a:ln>
        </p:spPr>
      </p:pic>
    </p:spTree>
  </p:cSld>
  <p:transition advTm="0"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40033" descr=""/>
          <p:cNvPicPr/>
          <p:nvPr/>
        </p:nvPicPr>
        <p:blipFill>
          <a:blip r:embed="rId1"/>
          <a:stretch/>
        </p:blipFill>
        <p:spPr>
          <a:xfrm>
            <a:off x="444600" y="1322280"/>
            <a:ext cx="8208720" cy="534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260280"/>
            <a:ext cx="856908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уществляется заполнение сведений об объекте недвиж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003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85440" cy="576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0"/>
            <a:ext cx="835344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2. Пользователь заполняет сведения 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обладателе, заявите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4003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0"/>
            <a:ext cx="849636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а 3 «Прилагаемые документ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загрузка необходимых файлов электронных документов и электронных образов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 заполнение полей реквизитов электронных документов и электронных образов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добавление документа, либо удаление документа из списка, изменение его реквизи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40037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8209080" cy="3933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8680" y="3573360"/>
            <a:ext cx="881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404640"/>
            <a:ext cx="84722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Документы, необходимые для проведения государственной регистрации прав, представляемые в форме электронных документов должны быть подписаны усиленной квалифицированной электронной подписью (далее - УКЭП) лиц, которые в соответствии подписывают такие документы при их составлении (издании) в форме документа на бумажном носител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- Документы, необходимые для государственной регистрации прав, представляемые в форме электронного образа бумажного документа, должны быть подписаны УКЭП лиц, которые в соответствии уполномочены заверять копии таких документов в форме документов на бумажном носителе (п. 5 приказа Минэкономразвития РФ от 29.11.2015 №72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02:36:08Z</dcterms:created>
  <dc:creator>letyaginaea</dc:creator>
  <dc:description/>
  <dc:language>en-US</dc:language>
  <cp:lastModifiedBy>letyaginaea</cp:lastModifiedBy>
  <dcterms:modified xsi:type="dcterms:W3CDTF">2015-10-28T03:47:48Z</dcterms:modified>
  <cp:revision>23</cp:revision>
  <dc:subject/>
  <dc:title>Представление документов на государственную регистрацию прав электронным способом </dc:title>
</cp:coreProperties>
</file>